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EFE3-C783-4272-ABCA-4C88560E9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864C-D4F9-469A-A620-786C0343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300E-966A-49AB-8559-8398AC41E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0619-C243-47F4-A8E5-AB8008DF0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9473-2483-4BAB-9696-4D25B376B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9C5A-73FA-4ECC-947C-E8CEFC5F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51BF-1F34-4319-A618-401A5DB3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BBEF3-851F-4DE0-B719-304C3330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451B-FCC2-4D75-A7CD-4C5612DC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0BD5E-AD77-4495-8E82-8B1D7C1A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F80F-D977-49CA-AEEA-63E56BDA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536E-2809-4B6A-A23A-C410BD80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44C42-25A5-4C1A-A429-A69567A9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507A-EF26-4B5B-8591-7192154E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44729-23EE-4507-A8D4-DA3D784E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8586-2F3B-49CD-B2DD-BEB926EA6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26CD-13BA-44A8-BB88-B8770FFBA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E169-2556-4ADB-8808-AA9480B3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CDC8-BF48-4670-94F4-303954FF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1444-5572-4B5C-94C7-F1537EE8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D232-BF9C-42C1-A242-5EA5AC4A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6AFA-FD4F-4DB1-9257-361E8451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FFF0-3BA7-4520-B6EF-F5C275C4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6879-16CC-44AC-BA8B-5F65607D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00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5673-1B15-4E7F-A5AD-6CF1B7BAD67D}" type="slidenum">
              <a:rPr b="0" lang="zh-CN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69696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69696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8C78-F141-4777-B9FE-A6AE8D814D36}" type="slidenum">
              <a:rPr b="0" lang="zh-CN" sz="14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Comic Sans MS"/>
              </a:rPr>
              <a:t>My Dream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omic Sans MS"/>
              </a:rPr>
              <a:t>By  Tina (</a:t>
            </a:r>
            <a:r>
              <a:rPr b="0" lang="zh-CN" sz="3200" spc="-1" strike="noStrike">
                <a:solidFill>
                  <a:srgbClr val="ffffff"/>
                </a:solidFill>
                <a:latin typeface="Comic Sans MS"/>
              </a:rPr>
              <a:t>杨珺汀</a:t>
            </a:r>
            <a:r>
              <a:rPr b="0" lang="zh-CN" sz="32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Comic Sans MS"/>
              </a:rPr>
              <a:t>Family</a:t>
            </a:r>
            <a:endParaRPr b="0" lang="en-US" sz="48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03280" y="1974960"/>
            <a:ext cx="691200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ddddd"/>
                </a:solidFill>
                <a:latin typeface="Comic Sans MS"/>
              </a:rPr>
              <a:t>Outline of my Dream</a:t>
            </a:r>
            <a:endParaRPr b="0" lang="en-US" sz="48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build up my own magazine team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read at least 1000 book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have a soul mate as my partner, and build our future togeth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make a fortu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make my family live a healthy and happy lif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Comic Sans MS"/>
              </a:rPr>
              <a:t>Magazine Team</a:t>
            </a:r>
            <a:endParaRPr b="0" lang="en-US" sz="4800" spc="-1" strike="noStrike">
              <a:solidFill>
                <a:srgbClr val="dddddd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 rot="703200">
            <a:off x="6156000" y="5300640"/>
            <a:ext cx="2448000" cy="1295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 rot="21461400">
            <a:off x="2771280" y="5084280"/>
            <a:ext cx="3024360" cy="1001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 rot="811800">
            <a:off x="2916360" y="3860640"/>
            <a:ext cx="3876480" cy="6098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 rot="21190200">
            <a:off x="324000" y="2276280"/>
            <a:ext cx="6551640" cy="744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 rot="20827800">
            <a:off x="684000" y="3933360"/>
            <a:ext cx="1790640" cy="866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 rot="20590200">
            <a:off x="7092720" y="4005000"/>
            <a:ext cx="1819080" cy="657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 rot="1061400">
            <a:off x="394920" y="5516280"/>
            <a:ext cx="1728720" cy="760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 rot="619200">
            <a:off x="7020000" y="2707920"/>
            <a:ext cx="17240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ddddd"/>
                </a:solidFill>
                <a:latin typeface="Comic Sans MS"/>
              </a:rPr>
              <a:t>Magazine Team</a:t>
            </a:r>
            <a:endParaRPr b="0" lang="en-US" sz="48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684072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Comic Sans MS"/>
              </a:rPr>
              <a:t>Books</a:t>
            </a:r>
            <a:endParaRPr b="0" lang="en-US" sz="48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69487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Comic Sans MS"/>
              </a:rPr>
              <a:t>Partner</a:t>
            </a:r>
            <a:endParaRPr b="0" lang="en-US" sz="48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76360" y="2060640"/>
            <a:ext cx="662472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Comic Sans MS"/>
              </a:rPr>
              <a:t>Make a Fortune</a:t>
            </a:r>
            <a:endParaRPr b="0" lang="en-US" sz="48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32000" y="2060640"/>
            <a:ext cx="72738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Comic Sans MS"/>
              </a:rPr>
              <a:t>Make a Fortune</a:t>
            </a:r>
            <a:endParaRPr b="0" lang="en-US" sz="48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676908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ddddd"/>
                </a:solidFill>
                <a:latin typeface="Comic Sans MS"/>
              </a:rPr>
              <a:t>Make a Fortune</a:t>
            </a:r>
            <a:endParaRPr b="0" lang="en-US" sz="48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15104" t="22638" r="4053" b="6683"/>
          <a:stretch/>
        </p:blipFill>
        <p:spPr>
          <a:xfrm>
            <a:off x="1332000" y="1900080"/>
            <a:ext cx="756108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1T15:34:35Z</dcterms:created>
  <dc:creator>yjt</dc:creator>
  <dc:description/>
  <dc:language>en-US</dc:language>
  <cp:lastModifiedBy>yjt</cp:lastModifiedBy>
  <dcterms:modified xsi:type="dcterms:W3CDTF">2011-05-21T16:40:58Z</dcterms:modified>
  <cp:revision>2</cp:revision>
  <dc:subject/>
  <dc:title>My Dream</dc:title>
</cp:coreProperties>
</file>